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3.png" ContentType="image/png"/>
  <Override PartName="/ppt/media/image36.wmf" ContentType="image/x-wmf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AB13-C5D1-47A0-8D9A-B1879390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 will introduce the uni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8D44-0EF7-4902-84EC-0DB0D83C03C0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1.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y: Points , lines, and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sh up with 1.2-1.3 WBME 1.1, 1.2, 1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 1.4 – 1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SP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3E4F-7F25-4918-90C3-E198ED3C4AC2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manipulate activity to answer questions from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s:  tape, scissors, Plane M, Plane N, Acti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091D-7D11-4E01-B3B5-B759C3CB81A0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:                   Geometry in your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STHETIC:          String Ar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:                   Students will tell a story about the basic undefined terms in geometry using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erms from unit #1, minimum of 15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Students will create a crossword puzzle with at least 20 vocabulary  wo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 provided for unit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E60A-F855-4793-A464-B16B7EE4522B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6A0-922B-4DDA-AA7D-F95822EB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DAE-5851-48B2-ABDB-F173456F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E89-CFEA-4A21-BE51-1A777C06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813-D113-43FA-874E-40EB5263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A17EC-59B3-472D-A91E-AFADAB7A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51A17-5D25-441C-B8CC-99718765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739B8-D64C-4E4A-9598-A8FB49E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6A4F7-C117-43CF-B028-2B33A64E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6B40-EA44-467F-AE17-68450C9A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67F79-F6B1-40EF-84A3-FAF78172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77F8-9975-4C2C-B7E0-DDDFF83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CCA-0BA5-4246-BCF9-DBE23092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ECC18-ACFE-46DB-9830-A672C599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142AA-24A9-47A7-9E4C-99C94BE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6011-D411-463C-8348-88BC1962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70DF-F66E-4169-BEC8-B62C6CA7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93D91-2976-40DA-BCB9-0CBC8DEE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7005-0112-4196-AC16-2BF289E7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7516B-0267-4CF1-8FFA-67AB2650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7F39-B743-45D9-8D24-0FB04DE6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4553-440F-4278-8595-3C0F3D3D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D816-74EB-4248-B438-1F083382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E07-956B-49CB-A9DE-E6D9E368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9F60-FFAB-4A86-8813-E5BCFE42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EA34-55A3-4EF8-89D2-926FFBE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ECC3-D114-413D-8DAF-FA0E64B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3F11-1C82-4A4B-AC05-7302A6F4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68CA-96A3-4331-A046-DFC23AE7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BA61-D0D4-4C13-9245-EC6BBDF8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D10A-1832-426C-B4E4-DFCD677E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D7473-0FCF-4778-9149-5FD624B0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8E0C9-B81F-4AD1-A4DD-8B28FFE7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28EC7-B4B4-4917-B0C0-2BB5B390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5D5-9541-4925-8D65-5C978CE0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94125E-DE8B-4D97-945A-9E28051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0B711-A539-436F-8D43-FDE095EA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04B09-4339-40D4-A3A9-85AE18B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DCD2C-305E-4735-B1F9-62B9BE9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05CFE-0C2B-4C9F-88B4-458E6BE1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EC362-B109-45B9-AEE0-27B1C314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22B14-476B-45AB-9B8A-347C6421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D90DA-0234-44B4-B087-983DA169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2543A-A5C1-4E35-BE6E-AB9A75D8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8E4-A49A-4CA8-B4D0-E3C166D6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D67-B3BA-40D3-AB6A-CB8C2345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0D6-6447-4CF0-B584-D29EC671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152-D577-4D2F-9779-3DD1872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A81-32C1-4165-A07C-4205484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77CB-89BB-4362-A4C9-BD1647FCD85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3060-7FD8-46F0-8DB5-9AA9CB87064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A9D2-A912-47BE-B690-19B442F18F8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D280-B399-4528-87F1-B2194FC9195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09320" y="39625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RUSMP 200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Learning Pl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dam Jordan &amp; Anna Cedill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774720" y="1749600"/>
            <a:ext cx="789948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394840" cy="1231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1905120" cy="1914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3"/>
          <a:stretch/>
        </p:blipFill>
        <p:spPr>
          <a:xfrm>
            <a:off x="5334120" y="5791320"/>
            <a:ext cx="326376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76720" y="4876920"/>
            <a:ext cx="1780920" cy="166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1590480" cy="1581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6"/>
          <a:stretch/>
        </p:blipFill>
        <p:spPr>
          <a:xfrm>
            <a:off x="6553080" y="3733920"/>
            <a:ext cx="2067120" cy="5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7"/>
          <a:stretch/>
        </p:blipFill>
        <p:spPr>
          <a:xfrm>
            <a:off x="685800" y="5715000"/>
            <a:ext cx="1219320" cy="3999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4"/>
          <p:cNvSpPr/>
          <p:nvPr/>
        </p:nvSpPr>
        <p:spPr>
          <a:xfrm>
            <a:off x="152280" y="32004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Pythagorean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 Theor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6324480" y="3200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c891"/>
                </a:solidFill>
                <a:latin typeface="Constantia"/>
              </a:rPr>
              <a:t>Midpoint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410080" y="51814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cee6"/>
                </a:solidFill>
                <a:latin typeface="Constantia"/>
              </a:rPr>
              <a:t>Distance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57" name="Straight Arrow Connector 17"/>
          <p:cNvCxnSpPr/>
          <p:nvPr/>
        </p:nvCxnSpPr>
        <p:spPr>
          <a:xfrm flipV="1">
            <a:off x="533520" y="1447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58" name="Text Box 14"/>
          <p:cNvSpPr/>
          <p:nvPr/>
        </p:nvSpPr>
        <p:spPr>
          <a:xfrm>
            <a:off x="609480" y="1676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s lesson will take groups of students through various GSP labs which will develop and connect the formulas belo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as six (6) lessons that deal with basic geometric terminolog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98440" y="291960"/>
            <a:ext cx="8474040" cy="860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prism"/>
          <p:cNvPicPr/>
          <p:nvPr/>
        </p:nvPicPr>
        <p:blipFill>
          <a:blip r:embed="rId2"/>
          <a:stretch/>
        </p:blipFill>
        <p:spPr>
          <a:xfrm>
            <a:off x="7162920" y="5029200"/>
            <a:ext cx="1692000" cy="129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intersect"/>
          <p:cNvPicPr/>
          <p:nvPr/>
        </p:nvPicPr>
        <p:blipFill>
          <a:blip r:embed="rId3"/>
          <a:stretch/>
        </p:blipFill>
        <p:spPr>
          <a:xfrm>
            <a:off x="5562720" y="4038480"/>
            <a:ext cx="187488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plane"/>
          <p:cNvPicPr/>
          <p:nvPr/>
        </p:nvPicPr>
        <p:blipFill>
          <a:blip r:embed="rId4"/>
          <a:stretch/>
        </p:blipFill>
        <p:spPr>
          <a:xfrm>
            <a:off x="3124080" y="3962520"/>
            <a:ext cx="1524240" cy="143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abeling lines"/>
          <p:cNvPicPr/>
          <p:nvPr/>
        </p:nvPicPr>
        <p:blipFill>
          <a:blip r:embed="rId5"/>
          <a:stretch/>
        </p:blipFill>
        <p:spPr>
          <a:xfrm>
            <a:off x="3048120" y="2362320"/>
            <a:ext cx="1371600" cy="12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ngbisect1"/>
          <p:cNvPicPr/>
          <p:nvPr/>
        </p:nvPicPr>
        <p:blipFill>
          <a:blip r:embed="rId6"/>
          <a:stretch/>
        </p:blipFill>
        <p:spPr>
          <a:xfrm>
            <a:off x="1066680" y="4267080"/>
            <a:ext cx="1447920" cy="1271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ongruent segments"/>
          <p:cNvPicPr/>
          <p:nvPr/>
        </p:nvPicPr>
        <p:blipFill>
          <a:blip r:embed="rId7"/>
          <a:stretch/>
        </p:blipFill>
        <p:spPr>
          <a:xfrm>
            <a:off x="5257800" y="2209680"/>
            <a:ext cx="194328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djangle1"/>
          <p:cNvPicPr/>
          <p:nvPr/>
        </p:nvPicPr>
        <p:blipFill>
          <a:blip r:embed="rId8"/>
          <a:stretch/>
        </p:blipFill>
        <p:spPr>
          <a:xfrm>
            <a:off x="838080" y="2438280"/>
            <a:ext cx="1765440" cy="1319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vertangle1"/>
          <p:cNvPicPr/>
          <p:nvPr/>
        </p:nvPicPr>
        <p:blipFill>
          <a:blip r:embed="rId9"/>
          <a:stretch/>
        </p:blipFill>
        <p:spPr>
          <a:xfrm>
            <a:off x="5105520" y="5181480"/>
            <a:ext cx="1874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idpt formula"/>
          <p:cNvPicPr/>
          <p:nvPr/>
        </p:nvPicPr>
        <p:blipFill>
          <a:blip r:embed="rId10"/>
          <a:stretch/>
        </p:blipFill>
        <p:spPr>
          <a:xfrm>
            <a:off x="1143000" y="5791320"/>
            <a:ext cx="3429000" cy="525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dist formula"/>
          <p:cNvPicPr/>
          <p:nvPr/>
        </p:nvPicPr>
        <p:blipFill>
          <a:blip r:embed="rId11"/>
          <a:stretch/>
        </p:blipFill>
        <p:spPr>
          <a:xfrm>
            <a:off x="4876920" y="3276720"/>
            <a:ext cx="3595680" cy="38088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1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334800" y="176040"/>
            <a:ext cx="8491680" cy="1354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828440"/>
            <a:ext cx="405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lesson introduces students to the undefined terms – point, line, &amp; pla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gment, endpoint, ray, and opposite rays are also introduced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7960" y="1828440"/>
            <a:ext cx="405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TIVITY used to evaluate student ability to differentiate between geometric concepts while using the Plane Acti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95" name="Straight Arrow Connector 6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196" name="Picture 0" descr="Intersecting planes M &amp; N (1).JPG"/>
          <p:cNvPicPr/>
          <p:nvPr/>
        </p:nvPicPr>
        <p:blipFill>
          <a:blip r:embed="rId2"/>
          <a:stretch/>
        </p:blipFill>
        <p:spPr>
          <a:xfrm>
            <a:off x="5486400" y="4495680"/>
            <a:ext cx="2755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304920" y="1523520"/>
            <a:ext cx="428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isu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ometry in Your Wor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7960" y="1523520"/>
            <a:ext cx="4059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inesthet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ing 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Content Placeholder 8" descr="DSC01500.JPG"/>
          <p:cNvPicPr/>
          <p:nvPr/>
        </p:nvPicPr>
        <p:blipFill>
          <a:blip r:embed="rId2"/>
          <a:stretch/>
        </p:blipFill>
        <p:spPr>
          <a:xfrm>
            <a:off x="5562720" y="4495680"/>
            <a:ext cx="1600200" cy="1981440"/>
          </a:xfrm>
          <a:prstGeom prst="rect">
            <a:avLst/>
          </a:prstGeom>
          <a:ln w="0">
            <a:noFill/>
          </a:ln>
        </p:spPr>
      </p:pic>
      <p:pic>
        <p:nvPicPr>
          <p:cNvPr id="201" name="Content Placeholder 9" descr="DSC01569.JPG"/>
          <p:cNvPicPr/>
          <p:nvPr/>
        </p:nvPicPr>
        <p:blipFill>
          <a:blip r:embed="rId3"/>
          <a:stretch/>
        </p:blipFill>
        <p:spPr>
          <a:xfrm rot="9239400">
            <a:off x="5395680" y="2476080"/>
            <a:ext cx="1527120" cy="1333440"/>
          </a:xfrm>
          <a:prstGeom prst="rect">
            <a:avLst/>
          </a:prstGeom>
          <a:ln w="0">
            <a:noFill/>
          </a:ln>
        </p:spPr>
      </p:pic>
      <p:pic>
        <p:nvPicPr>
          <p:cNvPr id="202" name="Content Placeholder 9" descr="DSC01569.JPG"/>
          <p:cNvPicPr/>
          <p:nvPr/>
        </p:nvPicPr>
        <p:blipFill>
          <a:blip r:embed="rId4"/>
          <a:stretch/>
        </p:blipFill>
        <p:spPr>
          <a:xfrm>
            <a:off x="7238880" y="3352680"/>
            <a:ext cx="1506600" cy="200844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9" descr="DSC01569.JPG"/>
          <p:cNvPicPr/>
          <p:nvPr/>
        </p:nvPicPr>
        <p:blipFill>
          <a:blip r:embed="rId5"/>
          <a:stretch/>
        </p:blipFill>
        <p:spPr>
          <a:xfrm rot="19113600">
            <a:off x="7118280" y="1802880"/>
            <a:ext cx="1497240" cy="11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6"/>
          <a:stretch/>
        </p:blipFill>
        <p:spPr>
          <a:xfrm rot="21380400">
            <a:off x="539640" y="2749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7"/>
          <a:stretch/>
        </p:blipFill>
        <p:spPr>
          <a:xfrm>
            <a:off x="2438280" y="2438280"/>
            <a:ext cx="1562400" cy="2133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8"/>
          <a:stretch/>
        </p:blipFill>
        <p:spPr>
          <a:xfrm rot="20355600">
            <a:off x="658440" y="4155840"/>
            <a:ext cx="1846440" cy="176040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08" name="Picture 12" descr=""/>
          <p:cNvPicPr/>
          <p:nvPr/>
        </p:nvPicPr>
        <p:blipFill>
          <a:blip r:embed="rId9"/>
          <a:stretch/>
        </p:blipFill>
        <p:spPr>
          <a:xfrm rot="797400">
            <a:off x="3015720" y="4578120"/>
            <a:ext cx="15987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04920" y="1523880"/>
            <a:ext cx="428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itt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eating a crossword puzzle with minimum of 20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1523520"/>
            <a:ext cx="405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erb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ll a story about the undefined terms in Geometry and how everything can relate back to these terms.  Must use minimum of 15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2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13" name="Picture 5" descr="DSC03359.JPG"/>
          <p:cNvPicPr/>
          <p:nvPr/>
        </p:nvPicPr>
        <p:blipFill>
          <a:blip r:embed="rId2"/>
          <a:stretch/>
        </p:blipFill>
        <p:spPr>
          <a:xfrm>
            <a:off x="6248520" y="46483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2514600" y="3505320"/>
            <a:ext cx="2057400" cy="99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4"/>
          <a:stretch/>
        </p:blipFill>
        <p:spPr>
          <a:xfrm>
            <a:off x="2666880" y="4648320"/>
            <a:ext cx="1755720" cy="860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1828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2057400"/>
            <a:ext cx="405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ntroduction of the Segment Addition Postulate is crucial to the understanding of solving for  unknown values .  The difference between “midpoint” and “between” arises in this les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9" name="Straight Arrow Connector 5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Rectangle 5"/>
          <p:cNvSpPr/>
          <p:nvPr/>
        </p:nvSpPr>
        <p:spPr>
          <a:xfrm>
            <a:off x="4800600" y="18288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Distanc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or |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- 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135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48006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Betwee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8672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8534520" y="574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3526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114800" y="5740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+ 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934320" y="5753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– 9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3505320" y="6248520"/>
            <a:ext cx="51814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19920" y="61358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295280" y="5867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160" y="190512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gle Addition Postulate allows students to work with angle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ming angles and measures of an angle is discussed in this se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s of angles such as acute angle, right angle, obtuse angles and straight angles are part of this less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3" name="Straight Arrow Connector 4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944800" cy="1873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2886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057040"/>
            <a:ext cx="405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ce the basics of points, lines, planes, angles, etc have been established, we dive deeper with angles by using the computer with Geometer Sketchp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119560" y="2746440"/>
            <a:ext cx="3114720" cy="2354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4419720" y="1828800"/>
            <a:ext cx="4190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SP lab # 11 vertical ang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5257800" y="426708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Observations: No matter where the points move the vertical angles have the same measure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9240" y="36360"/>
            <a:ext cx="8474040" cy="149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 rot="1974600">
            <a:off x="6875280" y="1854360"/>
            <a:ext cx="790560" cy="1419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6324480" y="3962520"/>
            <a:ext cx="2365560" cy="220968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3"/>
          <p:cNvSpPr/>
          <p:nvPr/>
        </p:nvSpPr>
        <p:spPr>
          <a:xfrm>
            <a:off x="609480" y="1676520"/>
            <a:ext cx="5562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w that students are familiar with GSP, they will explore different topics in groups then share their results with the cla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ormulas included in this section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rect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squa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tri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 and Circumference of a circ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46" name="Straight Arrow Connector 17"/>
          <p:cNvCxnSpPr/>
          <p:nvPr/>
        </p:nvCxnSpPr>
        <p:spPr>
          <a:xfrm flipV="1">
            <a:off x="380520" y="1523880"/>
            <a:ext cx="815436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1:39:40Z</dcterms:created>
  <dc:creator>BONESY</dc:creator>
  <dc:description/>
  <dc:language>en-US</dc:language>
  <cp:lastModifiedBy>teacher</cp:lastModifiedBy>
  <dcterms:modified xsi:type="dcterms:W3CDTF">2009-06-29T22:20:56Z</dcterms:modified>
  <cp:revision>12</cp:revision>
  <dc:subject/>
  <dc:title>Introduction to Geometry                   Unit #1</dc:title>
</cp:coreProperties>
</file>